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BB9-6748-4D85-91B7-476DA579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E02-5948-42F1-868D-88AE7168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87D-60B4-4D1B-9E75-658E459B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484-792B-46FF-A0E0-1A8D4C0F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0D67-A5B8-4EC2-A510-5E712A7C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73E2-70DB-425A-935F-811FA841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67D7-78AD-4F1B-A306-5DF91154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BBF6-839D-498B-9262-4808C78F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1362-0461-4564-9D69-0EB45EDF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7BCA-C1AC-4AC3-B528-D41E3AFC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0427-5BD0-42B8-A787-5C989D6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535E-FF84-4152-B537-E639167F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9280-7A6F-40D0-9A40-4D5488CB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526A-6F44-4DA6-A908-0269F3A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D9CE-B598-4693-A427-11E11513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0783-B21F-45CD-AE90-7C13F013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98A1-7522-4BF8-AFB9-3B3F798A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D9C-2667-49E3-AD54-7506BD4A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640-0BF7-4F78-BB21-BC30177A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C09-F35A-4C57-9277-3D41BAC8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548-0588-4B14-B273-823ADC27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9EA-DDD9-4D44-B7D4-0BCF850C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21E-FF26-4D14-AFB1-BD60DF4D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E1D-814B-4BD1-B292-C5F2D491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B810-EA20-4CAC-B290-C518ED0A97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0124-7C2C-4B7E-BE8F-9280895592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uni.edu/~iowawet/H2OProperties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62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6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64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think water molecules stick together?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water considered polar?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polar mean?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4"/>
          </p:cNvPr>
          <p:cNvSpPr/>
          <p:nvPr/>
        </p:nvSpPr>
        <p:spPr>
          <a:xfrm>
            <a:off x="4114800" y="4343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7:20:52Z</dcterms:created>
  <dc:creator>PritchaJ</dc:creator>
  <dc:description/>
  <dc:language>en-US</dc:language>
  <cp:lastModifiedBy>PritchaJ</cp:lastModifiedBy>
  <dcterms:modified xsi:type="dcterms:W3CDTF">2011-05-24T17:23:35Z</dcterms:modified>
  <cp:revision>1</cp:revision>
  <dc:subject/>
  <dc:title>Slide 1</dc:title>
</cp:coreProperties>
</file>